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0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11.png" ContentType="image/png"/>
  <Override PartName="/ppt/media/image19.jpeg" ContentType="image/jpeg"/>
  <Override PartName="/ppt/media/image23.png" ContentType="image/pn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10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26.png" ContentType="image/png"/>
  <Override PartName="/ppt/media/image18.png" ContentType="image/png"/>
  <Override PartName="/ppt/media/image28.jpeg" ContentType="image/jpeg"/>
  <Override PartName="/ppt/media/image29.png" ContentType="image/png"/>
  <Override PartName="/ppt/media/image21.jpeg" ContentType="image/jpeg"/>
  <Override PartName="/ppt/media/image22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204B-C711-4C9A-9907-72AE45269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F548-22AF-4646-9734-341B80CA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8C54-A712-47B8-8A31-0C1B701E7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2C5E-0EC7-4E19-BE3B-CAF7A20A9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098F-8ADE-4D13-A15D-270D0FF2E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0DBB-022B-4EC4-AD82-D9110214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2F63-4657-46E1-B49B-5CAA3E9C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BE880-CA33-49DB-BB48-23C9894E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F5732-39AA-426A-9B21-B92001D0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EF68-CFB5-4699-9E41-6FA546FD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EBA5-AEB5-4059-A5EF-0D113A60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FB6C-97FE-4FDC-B365-30215BE6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497F-685A-4C9F-A700-02131DD7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F688-C668-4EF9-B262-9D4310F1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466F-DEFE-48AB-AB81-5C79D0A1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3798-E0DA-4998-94E4-7063385D6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A8B6A-C4F5-4FF6-BEBD-B46C41F1F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622F20-3435-482C-8C18-C6919E6ED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4C089B-C24E-4F44-8F5D-94EACA9D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4C12D1-9A5F-490B-98C0-FDB1E9A0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2AB763-6B94-4BE4-8836-D9FA3331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CEF0A1-0574-4294-B1EC-B7724E5E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4361-4CDA-442D-A5BD-E5B6FD91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D07076-74B3-4AB3-A837-E3778C0D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377CC9-E0C5-4AB0-BCF7-3BEE28DF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772414-8152-4169-8DB8-102EF9F7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7C1251-AA57-4061-8C6C-5D23BC03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3A5747-E2F6-4FAE-9389-1D05F303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5B246E-E3D3-496B-A093-FAF1F328A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FC59EA-A531-41DB-BBA3-811F82DC5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946D1-F6B8-4739-AB6F-FA74B7E2F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F22D9-7D9D-47D0-B920-B451544E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F1725-C21A-449B-8BFB-1D00B5DF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E003-734B-409A-8DCF-41582FEE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29523-10A1-4702-996A-DB1EDA31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F207D-605C-43D1-B865-04073EB1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A62F5-2565-4859-A592-84C12143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3DFFD-6FDD-440E-A583-670C5FA2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88774-9E25-4A6C-AA58-C0C84E8A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5351A-D22B-4936-8B52-B30EF75E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9EB79-F6A3-488C-A281-2541F681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D6B3D-CAAD-4601-AA3C-61EEA6A9B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D23E5-B160-4152-BAC3-E51126992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6E62-11D2-4108-A76D-54EB8804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CCE8-22B9-4EBD-B042-F5E37771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36BE-ABC2-4EE2-8B80-890E8353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F0A3-4AF3-49B9-9F38-8404F92E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18E1-2973-41B5-9336-5966D056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87D7-8965-4990-9F78-CA38A33F567B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A260-FCF1-45FF-81BE-375611B672DF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6802-6C86-4BD8-9234-9ECB436259EE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9569-C5F3-476F-9E53-76F141FAC167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.jpeg"/><Relationship Id="rId8" Type="http://schemas.openxmlformats.org/officeDocument/2006/relationships/image" Target="../media/image12.png"/><Relationship Id="rId9" Type="http://schemas.openxmlformats.org/officeDocument/2006/relationships/image" Target="../media/image13.jpe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MINERALS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Learning Target = Matter &amp; Minerals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66320" y="762120"/>
            <a:ext cx="70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Silicat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042920" y="1523520"/>
            <a:ext cx="7338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Silicon &amp; oxygen = most abundant elements in Earth’s crust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Si and O combine &amp; form the silicon-oxygen tetrahedron (SiO</a:t>
            </a:r>
            <a:r>
              <a:rPr b="0" lang="en-US" sz="3200" spc="-1" strike="noStrike" baseline="-25000">
                <a:solidFill>
                  <a:srgbClr val="3e3d2d"/>
                </a:solidFill>
                <a:latin typeface="Century Gothic"/>
              </a:rPr>
              <a:t>4</a:t>
            </a: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Usually contain other elements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Si-O tetrahedra join in different ways &amp; bonds are strong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3" name="Picture 16" descr=""/>
          <p:cNvPicPr/>
          <p:nvPr/>
        </p:nvPicPr>
        <p:blipFill>
          <a:blip r:embed="rId1"/>
          <a:stretch/>
        </p:blipFill>
        <p:spPr>
          <a:xfrm>
            <a:off x="6553080" y="4724280"/>
            <a:ext cx="243864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Group 17"/>
          <p:cNvGrpSpPr/>
          <p:nvPr/>
        </p:nvGrpSpPr>
        <p:grpSpPr>
          <a:xfrm>
            <a:off x="1066680" y="838080"/>
            <a:ext cx="7162560" cy="5181480"/>
            <a:chOff x="1066680" y="838080"/>
            <a:chExt cx="7162560" cy="5181480"/>
          </a:xfrm>
        </p:grpSpPr>
        <p:sp>
          <p:nvSpPr>
            <p:cNvPr id="365" name="AutoShape 11"/>
            <p:cNvSpPr/>
            <p:nvPr/>
          </p:nvSpPr>
          <p:spPr>
            <a:xfrm>
              <a:off x="1066680" y="838080"/>
              <a:ext cx="7162560" cy="518148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pic>
          <p:nvPicPr>
            <p:cNvPr id="366" name="Picture 16" descr=""/>
            <p:cNvPicPr/>
            <p:nvPr/>
          </p:nvPicPr>
          <p:blipFill>
            <a:blip r:embed="rId1"/>
            <a:stretch/>
          </p:blipFill>
          <p:spPr>
            <a:xfrm>
              <a:off x="3390840" y="876240"/>
              <a:ext cx="2514600" cy="5105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7" name="Picture 2" descr=""/>
          <p:cNvPicPr/>
          <p:nvPr/>
        </p:nvPicPr>
        <p:blipFill>
          <a:blip r:embed="rId2"/>
          <a:stretch/>
        </p:blipFill>
        <p:spPr>
          <a:xfrm>
            <a:off x="6019920" y="3591000"/>
            <a:ext cx="2581200" cy="23907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4" descr="http://www.galleries.com/Olivine/olivine.jpg"/>
          <p:cNvPicPr/>
          <p:nvPr/>
        </p:nvPicPr>
        <p:blipFill>
          <a:blip r:embed="rId3"/>
          <a:stretch/>
        </p:blipFill>
        <p:spPr>
          <a:xfrm>
            <a:off x="1131840" y="876240"/>
            <a:ext cx="1347840" cy="1797120"/>
          </a:xfrm>
          <a:prstGeom prst="rect">
            <a:avLst/>
          </a:prstGeom>
          <a:ln w="0">
            <a:noFill/>
          </a:ln>
        </p:spPr>
      </p:pic>
      <p:pic>
        <p:nvPicPr>
          <p:cNvPr id="369" name="Straight Arrow Connector 7" descr=""/>
          <p:cNvPicPr/>
          <p:nvPr/>
        </p:nvPicPr>
        <p:blipFill>
          <a:blip r:embed="rId4"/>
          <a:stretch/>
        </p:blipFill>
        <p:spPr>
          <a:xfrm>
            <a:off x="2114640" y="1030320"/>
            <a:ext cx="1341360" cy="3412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" descr="http://upload.wikimedia.org/wikipedia/commons/8/81/Augite-112545.jpg"/>
          <p:cNvPicPr/>
          <p:nvPr/>
        </p:nvPicPr>
        <p:blipFill>
          <a:blip r:embed="rId5"/>
          <a:stretch/>
        </p:blipFill>
        <p:spPr>
          <a:xfrm>
            <a:off x="6715080" y="884160"/>
            <a:ext cx="1190520" cy="1270080"/>
          </a:xfrm>
          <a:prstGeom prst="rect">
            <a:avLst/>
          </a:prstGeom>
          <a:ln w="0">
            <a:noFill/>
          </a:ln>
        </p:spPr>
      </p:pic>
      <p:pic>
        <p:nvPicPr>
          <p:cNvPr id="371" name="Straight Arrow Connector 11" descr=""/>
          <p:cNvPicPr/>
          <p:nvPr/>
        </p:nvPicPr>
        <p:blipFill>
          <a:blip r:embed="rId6"/>
          <a:stretch/>
        </p:blipFill>
        <p:spPr>
          <a:xfrm>
            <a:off x="5834160" y="1152360"/>
            <a:ext cx="1195200" cy="6271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7" descr=""/>
          <p:cNvPicPr/>
          <p:nvPr/>
        </p:nvPicPr>
        <p:blipFill>
          <a:blip r:embed="rId7"/>
          <a:srcRect l="51713" t="58002" r="0" b="0"/>
          <a:stretch/>
        </p:blipFill>
        <p:spPr>
          <a:xfrm>
            <a:off x="912960" y="2933640"/>
            <a:ext cx="2014560" cy="1254240"/>
          </a:xfrm>
          <a:prstGeom prst="rect">
            <a:avLst/>
          </a:prstGeom>
          <a:ln w="0">
            <a:noFill/>
          </a:ln>
        </p:spPr>
      </p:pic>
      <p:pic>
        <p:nvPicPr>
          <p:cNvPr id="373" name="Straight Arrow Connector 14" descr=""/>
          <p:cNvPicPr/>
          <p:nvPr/>
        </p:nvPicPr>
        <p:blipFill>
          <a:blip r:embed="rId8"/>
          <a:stretch/>
        </p:blipFill>
        <p:spPr>
          <a:xfrm>
            <a:off x="2114640" y="2541600"/>
            <a:ext cx="1347840" cy="9334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8" descr="http://www.rocksforkids.com/images/mica%20MuscoviteMica02.jpg"/>
          <p:cNvPicPr/>
          <p:nvPr/>
        </p:nvPicPr>
        <p:blipFill>
          <a:blip r:embed="rId9"/>
          <a:stretch/>
        </p:blipFill>
        <p:spPr>
          <a:xfrm>
            <a:off x="954000" y="4419720"/>
            <a:ext cx="1981440" cy="1679400"/>
          </a:xfrm>
          <a:prstGeom prst="rect">
            <a:avLst/>
          </a:prstGeom>
          <a:ln w="0">
            <a:noFill/>
          </a:ln>
        </p:spPr>
      </p:pic>
      <p:pic>
        <p:nvPicPr>
          <p:cNvPr id="375" name="Straight Arrow Connector 18" descr=""/>
          <p:cNvPicPr/>
          <p:nvPr/>
        </p:nvPicPr>
        <p:blipFill>
          <a:blip r:embed="rId10"/>
          <a:stretch/>
        </p:blipFill>
        <p:spPr>
          <a:xfrm>
            <a:off x="2498760" y="3840120"/>
            <a:ext cx="969840" cy="1146240"/>
          </a:xfrm>
          <a:prstGeom prst="rect">
            <a:avLst/>
          </a:prstGeom>
          <a:ln w="0">
            <a:noFill/>
          </a:ln>
        </p:spPr>
      </p:pic>
      <p:pic>
        <p:nvPicPr>
          <p:cNvPr id="376" name="Straight Arrow Connector 20" descr=""/>
          <p:cNvPicPr/>
          <p:nvPr/>
        </p:nvPicPr>
        <p:blipFill>
          <a:blip r:embed="rId11"/>
          <a:stretch/>
        </p:blipFill>
        <p:spPr>
          <a:xfrm>
            <a:off x="5840280" y="4906800"/>
            <a:ext cx="1341720" cy="397080"/>
          </a:xfrm>
          <a:prstGeom prst="rect">
            <a:avLst/>
          </a:prstGeom>
          <a:ln w="0">
            <a:noFill/>
          </a:ln>
        </p:spPr>
      </p:pic>
      <p:sp>
        <p:nvSpPr>
          <p:cNvPr id="377" name="TextBox 21"/>
          <p:cNvSpPr/>
          <p:nvPr/>
        </p:nvSpPr>
        <p:spPr>
          <a:xfrm>
            <a:off x="1131840" y="506520"/>
            <a:ext cx="18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Olivin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8" name="TextBox 26"/>
          <p:cNvSpPr/>
          <p:nvPr/>
        </p:nvSpPr>
        <p:spPr>
          <a:xfrm>
            <a:off x="6703920" y="2163600"/>
            <a:ext cx="18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Augit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TextBox 27"/>
          <p:cNvSpPr/>
          <p:nvPr/>
        </p:nvSpPr>
        <p:spPr>
          <a:xfrm>
            <a:off x="581040" y="2801880"/>
            <a:ext cx="189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Hornblend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TextBox 28"/>
          <p:cNvSpPr/>
          <p:nvPr/>
        </p:nvSpPr>
        <p:spPr>
          <a:xfrm>
            <a:off x="954000" y="6110280"/>
            <a:ext cx="189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Mica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1" name="TextBox 29"/>
          <p:cNvSpPr/>
          <p:nvPr/>
        </p:nvSpPr>
        <p:spPr>
          <a:xfrm>
            <a:off x="6162840" y="595008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Quartz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66320" y="762120"/>
            <a:ext cx="70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Silicat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042920" y="1523520"/>
            <a:ext cx="7338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Crystallization from magma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Cooling occurs at or near Earth’s surface (temp and pressure low)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Also form at great depths (T &amp; P ↑)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Silicate formation dependent on: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Place of formation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Chemical composition of magma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66320" y="762120"/>
            <a:ext cx="70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arbonat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042920" y="1523520"/>
            <a:ext cx="7338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en-US" sz="3200" spc="-1" strike="noStrike" baseline="30000">
                <a:solidFill>
                  <a:srgbClr val="3e3d2d"/>
                </a:solidFill>
                <a:latin typeface="Century Gothic"/>
              </a:rPr>
              <a:t>nd</a:t>
            </a: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 most common group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Contain C, O &amp; another metallic element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Calcite (CaCO</a:t>
            </a:r>
            <a:r>
              <a:rPr b="0" lang="en-US" sz="3200" spc="-1" strike="noStrike" baseline="-25000">
                <a:solidFill>
                  <a:srgbClr val="3e3d2d"/>
                </a:solidFill>
                <a:latin typeface="Century Gothic"/>
              </a:rPr>
              <a:t>3</a:t>
            </a: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) is most common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Ex: Dolomite, limestone (rock), marble (rock)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86" name="Picture 2" descr="http://www.windows2universe.org/earth/geology/images/calcite_med.jpg"/>
          <p:cNvPicPr/>
          <p:nvPr/>
        </p:nvPicPr>
        <p:blipFill>
          <a:blip r:embed="rId1"/>
          <a:stretch/>
        </p:blipFill>
        <p:spPr>
          <a:xfrm>
            <a:off x="5105520" y="4419720"/>
            <a:ext cx="2666880" cy="20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320" y="762120"/>
            <a:ext cx="70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Oxid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042920" y="1523520"/>
            <a:ext cx="7338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Contain O + 1 or more elements (usually metals)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Form by: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Magma cooling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Changes in T and P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Exposed to water or moisture in air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Ex: Rutile (TiO</a:t>
            </a:r>
            <a:r>
              <a:rPr b="0" lang="en-US" sz="2800" spc="-1" strike="noStrike" baseline="-25000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), Corndum (Al</a:t>
            </a:r>
            <a:r>
              <a:rPr b="0" lang="en-US" sz="2800" spc="-1" strike="noStrike" baseline="-25000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O</a:t>
            </a:r>
            <a:r>
              <a:rPr b="0" lang="en-US" sz="2800" spc="-1" strike="noStrike" baseline="-25000">
                <a:solidFill>
                  <a:srgbClr val="3e3d2d"/>
                </a:solidFill>
                <a:latin typeface="Century Gothic"/>
              </a:rPr>
              <a:t>3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), Hematite (Fe</a:t>
            </a:r>
            <a:r>
              <a:rPr b="0" lang="en-US" sz="2800" spc="-1" strike="noStrike" baseline="-25000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O</a:t>
            </a:r>
            <a:r>
              <a:rPr b="0" lang="en-US" sz="2800" spc="-1" strike="noStrike" baseline="-25000">
                <a:solidFill>
                  <a:srgbClr val="3e3d2d"/>
                </a:solidFill>
                <a:latin typeface="Century Gothic"/>
              </a:rPr>
              <a:t>3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89" name="Picture 2" descr="http://www.excaliburmineral.com/cdintro/rutile.jpg"/>
          <p:cNvPicPr/>
          <p:nvPr/>
        </p:nvPicPr>
        <p:blipFill>
          <a:blip r:embed="rId1"/>
          <a:srcRect l="11234" t="7352" r="6595" b="5551"/>
          <a:stretch/>
        </p:blipFill>
        <p:spPr>
          <a:xfrm>
            <a:off x="5943600" y="2133720"/>
            <a:ext cx="213516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66320" y="762120"/>
            <a:ext cx="70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Sulfates &amp; Sulfid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042560" y="1523520"/>
            <a:ext cx="4443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Contain Sulfur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Form when mineral-rich waters evaporate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Form from thermal solutions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Ex: Gypsum, Galena, Pyrite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1"/>
          <a:stretch/>
        </p:blipFill>
        <p:spPr>
          <a:xfrm>
            <a:off x="5556240" y="1676520"/>
            <a:ext cx="2927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66320" y="762120"/>
            <a:ext cx="70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Halid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042920" y="1523520"/>
            <a:ext cx="7338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Contain a halogen ion plus 1 or more elements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Ex: Halite (NaCl) &amp; Fluorite (CaF</a:t>
            </a:r>
            <a:r>
              <a:rPr b="0" lang="en-US" sz="3200" spc="-1" strike="noStrike" baseline="-25000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6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97" name="Picture 6" descr="http://upload.wikimedia.org/wikipedia/commons/7/7c/Selpologne.jpg"/>
          <p:cNvPicPr/>
          <p:nvPr/>
        </p:nvPicPr>
        <p:blipFill>
          <a:blip r:embed="rId1"/>
          <a:srcRect l="12880" t="15637" r="9485" b="10989"/>
          <a:stretch/>
        </p:blipFill>
        <p:spPr>
          <a:xfrm>
            <a:off x="990720" y="3352680"/>
            <a:ext cx="3359160" cy="30402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8" descr="http://www.mineralminers.com/images/fluorite/mins/flum101.jpg"/>
          <p:cNvPicPr/>
          <p:nvPr/>
        </p:nvPicPr>
        <p:blipFill>
          <a:blip r:embed="rId2"/>
          <a:stretch/>
        </p:blipFill>
        <p:spPr>
          <a:xfrm>
            <a:off x="4724280" y="335268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320" y="762120"/>
            <a:ext cx="70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Native Element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042920" y="1523520"/>
            <a:ext cx="5500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Contains one element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Ex: Gold (Au), Silver (Ag), Copper (Cu), Sulfur (S), Carbon (C)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Native forms of carbon are graphite &amp; diamond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Some form from hydrothermal solutions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03" name="Picture 2" descr="http://hungeree.com/wp-content/uploads/2012/11/07-06-diamond.jpg"/>
          <p:cNvPicPr/>
          <p:nvPr/>
        </p:nvPicPr>
        <p:blipFill>
          <a:blip r:embed="rId1"/>
          <a:srcRect l="18700" t="7282" r="18024" b="3467"/>
          <a:stretch/>
        </p:blipFill>
        <p:spPr>
          <a:xfrm>
            <a:off x="6543720" y="2438280"/>
            <a:ext cx="213372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66320" y="762120"/>
            <a:ext cx="70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Properties of Mineral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1042920" y="1523520"/>
            <a:ext cx="7415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e3d2d"/>
                </a:solidFill>
                <a:latin typeface="Century Gothic"/>
              </a:rPr>
              <a:t>Color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e3d2d"/>
                </a:solidFill>
                <a:latin typeface="Century Gothic"/>
              </a:rPr>
              <a:t>Streak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e3d2d"/>
                </a:solidFill>
                <a:latin typeface="Century Gothic"/>
              </a:rPr>
              <a:t>Luster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e3d2d"/>
                </a:solidFill>
                <a:latin typeface="Century Gothic"/>
              </a:rPr>
              <a:t>Crystal form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e3d2d"/>
                </a:solidFill>
                <a:latin typeface="Century Gothic"/>
              </a:rPr>
              <a:t>Hardness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e3d2d"/>
                </a:solidFill>
                <a:latin typeface="Century Gothic"/>
              </a:rPr>
              <a:t>Cleavage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e3d2d"/>
                </a:solidFill>
                <a:latin typeface="Century Gothic"/>
              </a:rPr>
              <a:t>Fracture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e3d2d"/>
                </a:solidFill>
                <a:latin typeface="Century Gothic"/>
              </a:rPr>
              <a:t>Density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e3d2d"/>
                </a:solidFill>
                <a:latin typeface="Century Gothic"/>
              </a:rPr>
              <a:t>Distinctive properties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320" y="762120"/>
            <a:ext cx="70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Properties of Mineral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1042920" y="1523520"/>
            <a:ext cx="7415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Color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Can be unique to some minerals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Not useful in identification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Small amounts of different elements can give the same mineral different colors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Ex: Sapphires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1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2392200" y="4343400"/>
            <a:ext cx="4545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024680" cy="8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Mineral Characteristic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990360" y="15235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Definition = naturally occurring, inorganic solid with an orderly crystalline structure and a definite chemical composition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To be considered a mineral, must have the following characteristics: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aturally occurring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olid substanc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Orderly crystalline structur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Definite chemical compositio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Generally considered inorganic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66320" y="762120"/>
            <a:ext cx="70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Properties of Mineral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042920" y="1523520"/>
            <a:ext cx="7415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Streak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Color of a mineral in its powdered form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Rub mineral across a streak plat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ineral color may vary but streak does not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Difference between minerals with metallic &amp; nonmetallic luster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6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17" name="Picture 2" descr=""/>
          <p:cNvPicPr/>
          <p:nvPr/>
        </p:nvPicPr>
        <p:blipFill>
          <a:blip r:embed="rId1"/>
          <a:stretch/>
        </p:blipFill>
        <p:spPr>
          <a:xfrm>
            <a:off x="2590920" y="4191120"/>
            <a:ext cx="339084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66320" y="762120"/>
            <a:ext cx="70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Properties of Mineral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042920" y="1523520"/>
            <a:ext cx="7415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Luster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How light is reflected from the surface of a mineral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etallic luster – appearance of metal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onmetallic luster – use different adjective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Glassy or vitreous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Pearly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Silky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Earthy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Brilliant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2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22" name="Picture 2" descr=""/>
          <p:cNvPicPr/>
          <p:nvPr/>
        </p:nvPicPr>
        <p:blipFill>
          <a:blip r:embed="rId1"/>
          <a:stretch/>
        </p:blipFill>
        <p:spPr>
          <a:xfrm>
            <a:off x="4341960" y="3581280"/>
            <a:ext cx="480060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66320" y="762120"/>
            <a:ext cx="70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Properties of Mineral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1042920" y="1523880"/>
            <a:ext cx="741528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Crystal form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Visible expression of a mineral’s internal arrangement of atoms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When a mineral forms slowly with plenty of space, develop into a crystal with well-formed sides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ost of the time, minerals compete for space so minerals do not show their crystal form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68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2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6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27" name="Picture 17" descr=""/>
          <p:cNvPicPr/>
          <p:nvPr/>
        </p:nvPicPr>
        <p:blipFill>
          <a:blip r:embed="rId1"/>
          <a:stretch/>
        </p:blipFill>
        <p:spPr>
          <a:xfrm>
            <a:off x="1295280" y="4086360"/>
            <a:ext cx="647712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66320" y="762120"/>
            <a:ext cx="70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Properties of Mineral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1042920" y="1523520"/>
            <a:ext cx="7415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Hardness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easure of the resistance of a mineral to being scratched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Determined by rubbing one mineral against another of known hardnes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ohs scale consists of 10 minerals arranged from 10 (hardest) to 1 (softest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68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1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16" descr=""/>
          <p:cNvPicPr/>
          <p:nvPr/>
        </p:nvPicPr>
        <p:blipFill>
          <a:blip r:embed="rId1"/>
          <a:stretch/>
        </p:blipFill>
        <p:spPr>
          <a:xfrm>
            <a:off x="2438280" y="0"/>
            <a:ext cx="403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320" y="762120"/>
            <a:ext cx="70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Properties of Mineral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1042920" y="1523520"/>
            <a:ext cx="7415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Cleavage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Tendency of a mineral to break along flat, even surface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68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6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37" name="Picture 15" descr=""/>
          <p:cNvPicPr/>
          <p:nvPr/>
        </p:nvPicPr>
        <p:blipFill>
          <a:blip r:embed="rId1"/>
          <a:stretch/>
        </p:blipFill>
        <p:spPr>
          <a:xfrm>
            <a:off x="1955880" y="2895480"/>
            <a:ext cx="508140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66320" y="762120"/>
            <a:ext cx="70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Properties of Mineral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042920" y="1523520"/>
            <a:ext cx="7415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Fracture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Uneven breakage of a mineral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inerals that do not show cleavage when broken are said to fractur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68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42" name="Picture 17" descr=""/>
          <p:cNvPicPr/>
          <p:nvPr/>
        </p:nvPicPr>
        <p:blipFill>
          <a:blip r:embed="rId1"/>
          <a:stretch/>
        </p:blipFill>
        <p:spPr>
          <a:xfrm>
            <a:off x="2133720" y="3195720"/>
            <a:ext cx="449568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66320" y="762120"/>
            <a:ext cx="70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Properties of Mineral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042920" y="1523520"/>
            <a:ext cx="7415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Density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Property of all matter that is the ratio of an object’s mass to its volum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Unit = grams per cubic centimeter (g/cm</a:t>
            </a:r>
            <a:r>
              <a:rPr b="0" lang="en-US" sz="2200" spc="-1" strike="noStrike" baseline="30000">
                <a:solidFill>
                  <a:srgbClr val="3e3d2d"/>
                </a:solidFill>
                <a:latin typeface="Century Gothic"/>
              </a:rPr>
              <a:t>3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any common minerals have densities between 2 &amp; 5 g/cm</a:t>
            </a:r>
            <a:r>
              <a:rPr b="0" lang="en-US" sz="2200" spc="-1" strike="noStrike" baseline="30000">
                <a:solidFill>
                  <a:srgbClr val="3e3d2d"/>
                </a:solidFill>
                <a:latin typeface="Century Gothic"/>
              </a:rPr>
              <a:t>3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68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6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47" name="Picture 2" descr=""/>
          <p:cNvPicPr/>
          <p:nvPr/>
        </p:nvPicPr>
        <p:blipFill>
          <a:blip r:embed="rId1"/>
          <a:stretch/>
        </p:blipFill>
        <p:spPr>
          <a:xfrm>
            <a:off x="2309760" y="4191120"/>
            <a:ext cx="445788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66320" y="762120"/>
            <a:ext cx="70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Properties of Mineral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1042920" y="1523520"/>
            <a:ext cx="7415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Distinctive Properties of Minerals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Some minerals can be recognized by other distinctive propertie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Feel (Talc = soapy, graphite = greasy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Easily shaped (Gold, silver, copper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agnetic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Double refraction (appearance doubles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Smell (sulfur minerals = rotten eggs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Reacts with hydrochloric acid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68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1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52" name="Picture 2" descr=""/>
          <p:cNvPicPr/>
          <p:nvPr/>
        </p:nvPicPr>
        <p:blipFill>
          <a:blip r:embed="rId1"/>
          <a:srcRect l="5728" t="0" r="0" b="0"/>
          <a:stretch/>
        </p:blipFill>
        <p:spPr>
          <a:xfrm>
            <a:off x="6477120" y="4343400"/>
            <a:ext cx="201132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685440"/>
            <a:ext cx="7024680" cy="8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Mineral Characteristic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042920" y="1523520"/>
            <a:ext cx="7415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e3d2d"/>
                </a:solidFill>
                <a:uFillTx/>
                <a:latin typeface="Century Gothic"/>
              </a:rPr>
              <a:t>Naturally occurring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– formed by geologic processe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e3d2d"/>
                </a:solidFill>
                <a:uFillTx/>
                <a:latin typeface="Century Gothic"/>
              </a:rPr>
              <a:t>Solid substance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– solids within temp ranges that are normal for Earth’s surfac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e3d2d"/>
                </a:solidFill>
                <a:uFillTx/>
                <a:latin typeface="Century Gothic"/>
              </a:rPr>
              <a:t>Crystalline structure </a:t>
            </a:r>
            <a:r>
              <a:rPr b="0" lang="en-US" sz="2400" spc="-1" strike="noStrike" u="sng">
                <a:solidFill>
                  <a:srgbClr val="3e3d2d"/>
                </a:solidFill>
                <a:uFillTx/>
                <a:latin typeface="Century Gothic"/>
              </a:rPr>
              <a:t>–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toms or ions arranged in orderly &amp; repetitive manner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e3d2d"/>
                </a:solidFill>
                <a:uFillTx/>
                <a:latin typeface="Century Gothic"/>
              </a:rPr>
              <a:t>Definite chemical composition</a:t>
            </a:r>
            <a:r>
              <a:rPr b="0" lang="en-US" sz="24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– most minerals are chemical compound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e3d2d"/>
                </a:solidFill>
                <a:uFillTx/>
                <a:latin typeface="Century Gothic"/>
              </a:rPr>
              <a:t>Generally considered inorganic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– minerals generally do not come from a living sourc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320" y="762120"/>
            <a:ext cx="70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How Minerals Form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042920" y="1523520"/>
            <a:ext cx="7338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4 major processes by which minerals form: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Crystallization from Magma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Precipitation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Pressure &amp; Temperature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Hydrothermal Solutions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66320" y="762120"/>
            <a:ext cx="70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How Minerals Form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042920" y="1523520"/>
            <a:ext cx="7338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e3d2d"/>
                </a:solidFill>
                <a:uFillTx/>
                <a:latin typeface="Century Gothic"/>
              </a:rPr>
              <a:t>Crystallization from Magma 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e3d2d"/>
                </a:solidFill>
                <a:latin typeface="Century Gothic"/>
              </a:rPr>
              <a:t>As magma (molten rock) cools, elements combine and crystallize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e3d2d"/>
                </a:solidFill>
                <a:latin typeface="Century Gothic"/>
              </a:rPr>
              <a:t>1st – compounds rich in Fe, Ca, Mg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en-US" sz="3000" spc="-1" strike="noStrike" baseline="30000">
                <a:solidFill>
                  <a:srgbClr val="3e3d2d"/>
                </a:solidFill>
                <a:latin typeface="Century Gothic"/>
              </a:rPr>
              <a:t>nd</a:t>
            </a:r>
            <a:r>
              <a:rPr b="0" lang="en-US" sz="3000" spc="-1" strike="noStrike">
                <a:solidFill>
                  <a:srgbClr val="3e3d2d"/>
                </a:solidFill>
                <a:latin typeface="Century Gothic"/>
              </a:rPr>
              <a:t> – Na, K, Al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5" name="Picture 17" descr=""/>
          <p:cNvPicPr/>
          <p:nvPr/>
        </p:nvPicPr>
        <p:blipFill>
          <a:blip r:embed="rId1"/>
          <a:stretch/>
        </p:blipFill>
        <p:spPr>
          <a:xfrm>
            <a:off x="4284720" y="3962520"/>
            <a:ext cx="3406680" cy="2438280"/>
          </a:xfrm>
          <a:prstGeom prst="rect">
            <a:avLst/>
          </a:prstGeom>
          <a:ln w="0">
            <a:noFill/>
          </a:ln>
        </p:spPr>
      </p:pic>
      <p:sp>
        <p:nvSpPr>
          <p:cNvPr id="346" name="TextBox 4"/>
          <p:cNvSpPr/>
          <p:nvPr/>
        </p:nvSpPr>
        <p:spPr>
          <a:xfrm>
            <a:off x="1906560" y="4487760"/>
            <a:ext cx="23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Feldspar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7" name="TextBox 5"/>
          <p:cNvSpPr/>
          <p:nvPr/>
        </p:nvSpPr>
        <p:spPr>
          <a:xfrm>
            <a:off x="1906560" y="5710320"/>
            <a:ext cx="23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Quartz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8" name="TextBox 6"/>
          <p:cNvSpPr/>
          <p:nvPr/>
        </p:nvSpPr>
        <p:spPr>
          <a:xfrm>
            <a:off x="7162920" y="3817800"/>
            <a:ext cx="23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Muscovit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TextBox 7"/>
          <p:cNvSpPr/>
          <p:nvPr/>
        </p:nvSpPr>
        <p:spPr>
          <a:xfrm>
            <a:off x="6934320" y="5195880"/>
            <a:ext cx="23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Horneblend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66320" y="762120"/>
            <a:ext cx="70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How Minerals Form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042920" y="1523520"/>
            <a:ext cx="7338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e3d2d"/>
                </a:solidFill>
                <a:uFillTx/>
                <a:latin typeface="Century Gothic"/>
              </a:rPr>
              <a:t>Precipitation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e3d2d"/>
                </a:solidFill>
                <a:latin typeface="Century Gothic"/>
              </a:rPr>
              <a:t>Water contains dissolved substances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e3d2d"/>
                </a:solidFill>
                <a:latin typeface="Century Gothic"/>
              </a:rPr>
              <a:t>Minerals form due to: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Evaporation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Temperature change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e3d2d"/>
                </a:solidFill>
                <a:latin typeface="Century Gothic"/>
              </a:rPr>
              <a:t>Minerals are left behind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6527880" y="762120"/>
            <a:ext cx="25430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66320" y="762120"/>
            <a:ext cx="70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How Minerals Form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042920" y="1523520"/>
            <a:ext cx="7338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e3d2d"/>
                </a:solidFill>
                <a:uFillTx/>
                <a:latin typeface="Century Gothic"/>
              </a:rPr>
              <a:t>Pressure &amp; Temperature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e3d2d"/>
                </a:solidFill>
                <a:latin typeface="Century Gothic"/>
              </a:rPr>
              <a:t>Increase in pressure causes a mineral to recrystallize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e3d2d"/>
                </a:solidFill>
                <a:latin typeface="Century Gothic"/>
              </a:rPr>
              <a:t>Form more compact minerals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e3d2d"/>
                </a:solidFill>
                <a:latin typeface="Century Gothic"/>
              </a:rPr>
              <a:t>Temperature change can cause instability and new minerals form that are stable at new temperature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e3d2d"/>
                </a:solidFill>
                <a:latin typeface="Century Gothic"/>
              </a:rPr>
              <a:t>Ex: Talc &amp; Muscovite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5" name="Picture 3" descr=""/>
          <p:cNvPicPr/>
          <p:nvPr/>
        </p:nvPicPr>
        <p:blipFill>
          <a:blip r:embed="rId1"/>
          <a:stretch/>
        </p:blipFill>
        <p:spPr>
          <a:xfrm>
            <a:off x="6324480" y="4678200"/>
            <a:ext cx="182880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6320" y="762120"/>
            <a:ext cx="70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How Minerals Form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042920" y="1523520"/>
            <a:ext cx="7338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e3d2d"/>
                </a:solidFill>
                <a:uFillTx/>
                <a:latin typeface="Century Gothic"/>
              </a:rPr>
              <a:t>Hydrothermal Solutions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e3d2d"/>
                </a:solidFill>
                <a:latin typeface="Century Gothic"/>
              </a:rPr>
              <a:t>Hot mixture of water &amp; dissolved substances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e3d2d"/>
                </a:solidFill>
                <a:latin typeface="Century Gothic"/>
              </a:rPr>
              <a:t>Temps = 100°C &amp; 300°C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e3d2d"/>
                </a:solidFill>
                <a:latin typeface="Century Gothic"/>
              </a:rPr>
              <a:t>Chemical reactions form new minerals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e3d2d"/>
                </a:solidFill>
                <a:latin typeface="Century Gothic"/>
              </a:rPr>
              <a:t>Solutions cool &amp; minerals form as well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e3d2d"/>
                </a:solidFill>
                <a:latin typeface="Century Gothic"/>
              </a:rPr>
              <a:t>Ex: Quartz, pyrite, sulfur minerals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8" name="Picture 4" descr=""/>
          <p:cNvPicPr/>
          <p:nvPr/>
        </p:nvPicPr>
        <p:blipFill>
          <a:blip r:embed="rId1"/>
          <a:stretch/>
        </p:blipFill>
        <p:spPr>
          <a:xfrm>
            <a:off x="6248520" y="22860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66320" y="762120"/>
            <a:ext cx="70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Mineral Group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042920" y="1523520"/>
            <a:ext cx="7338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Over 3,800 identified minerals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Century Gothic"/>
              </a:rPr>
              <a:t>Groups are based on composition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e3d2d"/>
                </a:solidFill>
                <a:latin typeface="Century Gothic"/>
              </a:rPr>
              <a:t>Silicates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e3d2d"/>
                </a:solidFill>
                <a:latin typeface="Century Gothic"/>
              </a:rPr>
              <a:t>Carbonates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e3d2d"/>
                </a:solidFill>
                <a:latin typeface="Century Gothic"/>
              </a:rPr>
              <a:t>Oxides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e3d2d"/>
                </a:solidFill>
                <a:latin typeface="Century Gothic"/>
              </a:rPr>
              <a:t>Sulfates &amp; sulfides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e3d2d"/>
                </a:solidFill>
                <a:latin typeface="Century Gothic"/>
              </a:rPr>
              <a:t>Halides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e3d2d"/>
                </a:solidFill>
                <a:latin typeface="Century Gothic"/>
              </a:rPr>
              <a:t>Native elements</a:t>
            </a: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7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8T23:56:44Z</dcterms:created>
  <dc:creator>Builder</dc:creator>
  <dc:description/>
  <dc:language>en-US</dc:language>
  <cp:lastModifiedBy>Builder</cp:lastModifiedBy>
  <dcterms:modified xsi:type="dcterms:W3CDTF">2015-09-13T22:19:05Z</dcterms:modified>
  <cp:revision>17</cp:revision>
  <dc:subject/>
  <dc:title>MINERALS</dc:title>
</cp:coreProperties>
</file>